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1091-9B37-481B-92EC-160A4D539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A04A-A722-4F5B-83D6-18213CD54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2DEF-DD68-463E-8440-B0F1F4BBC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6464-893A-4D07-83DA-E476FE3AD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4D91-9ADF-472E-8365-B07FDBFD8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69A2-3181-4F33-9231-69C1D488F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9294-9F45-4631-A35D-E33A7B236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286A-DE8A-46B2-9FFF-EBE2A238A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C400-0CCC-47A7-B299-323B85BCD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C312-A56C-476A-B25A-A5F94EF4D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49FE-BC57-4F2B-83F8-74C39E412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198A-E207-43D2-B54C-F70D04747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C68D-CB3A-4E58-BD65-8F9031748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16C0-CEC3-4AEC-BA90-344544A59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BA87B-83AE-4334-AD4C-5A6E0F550D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AC397-539D-4765-B80F-58B928EF4C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B7E43-1FA8-490F-B1EF-B7DA24B1E3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B0B2C-D72C-4AB0-B312-F25310AFF7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FAB3-3BED-4FCF-AC06-EB355F9120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CBB3-E6DB-4315-97A9-6609346961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6264-BBE4-4946-9FB1-8C2C686571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F0B3-DE77-47FE-B877-8609A61F25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9C21-C697-49F7-9861-498508334E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7967-9FDC-49B7-874E-608932C5DE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54CB-BD8C-4871-AB0E-11B5BAF331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4F666-B2EA-479B-8356-00107F6B09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B941-9BB9-4FF0-A395-A920FB2EE8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348D-83A2-4B13-A6BB-8F4C9839A0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31CF-D5E4-4335-A02F-F231FC3BCE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C8E3-2DB8-4984-9329-F67C265365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61B5-7817-47C1-BE29-97BC6FC98E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E4115-22CA-42A5-AF1E-EBB28E9A8A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FC69D-68E9-4918-A62E-21ADB51742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6AF0D-4C18-42D2-A813-B2F2E0C99C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2050F-7824-43AE-8C58-0E248B9203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9FE79-5CB0-4755-BA96-F9F9C80F68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2D859-5656-4836-B256-215C1222B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F5730-1F5A-407D-A358-6267C07F31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C50C-E593-4EB5-A321-8F849371BA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9286-01A8-48D9-86A4-6A14B040C8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7009-87D7-4DB8-89EF-860D31C5AE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1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5" name="Text Box 16"/>
          <p:cNvSpPr/>
          <p:nvPr/>
        </p:nvSpPr>
        <p:spPr>
          <a:xfrm>
            <a:off x="2971800" y="1600200"/>
            <a:ext cx="6172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des processus : Contrôle qualité des procédures qualitatives et semi quantitative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6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BB29-B12C-4FB7-8166-4500F8CF82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ation de contrôles traditionnel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és comm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un contrôle positif et néga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faiblement positif pour les procédures immun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sissez des contrôles positifs proches des valeurs limites (cut-off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pour contrôler la phase d’ext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3DB8-8F6D-425C-A6E0-01509E065FA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8EAC-A26E-4E62-94C3-9D1648B38E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5" name="Picture 10" descr="qc_bacteria"/>
          <p:cNvPicPr/>
          <p:nvPr/>
        </p:nvPicPr>
        <p:blipFill>
          <a:blip r:embed="rId1"/>
          <a:stretch/>
        </p:blipFill>
        <p:spPr>
          <a:xfrm>
            <a:off x="6248520" y="2897280"/>
            <a:ext cx="2666880" cy="2297160"/>
          </a:xfrm>
          <a:prstGeom prst="rect">
            <a:avLst/>
          </a:prstGeom>
          <a:ln w="0">
            <a:noFill/>
          </a:ln>
        </p:spPr>
      </p:pic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8A4B-B898-4886-8ADF-B5C4C48D72DB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ultures de collection pour le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« maison 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ons prévisib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milieux, les réactifs et les consommables fonctionnent comme prév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7" descr="qc_growth_poor_growth_cdc"/>
          <p:cNvPicPr/>
          <p:nvPr/>
        </p:nvPicPr>
        <p:blipFill>
          <a:blip r:embed="rId2"/>
          <a:stretch/>
        </p:blipFill>
        <p:spPr>
          <a:xfrm>
            <a:off x="4419720" y="4919760"/>
            <a:ext cx="289548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DDDC-D066-4DEF-B2E9-8B8AC875B3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igines des souches de référenc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ATCC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 American Type Culture Collection (USA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TCC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ational Type Culture Collection (UK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IP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llection de l’Institut Pasteur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F2BC-F277-4911-ADAB-10B5718E58E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E47B-A131-4551-B281-478952732E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D186-2E88-490C-BF95-13E339A89321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colorants sont importants—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enez soin d’eux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89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0"/>
          <p:cNvSpPr/>
          <p:nvPr/>
        </p:nvSpPr>
        <p:spPr>
          <a:xfrm>
            <a:off x="5531760" y="52578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Pas de soi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507960" y="52578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Verdana"/>
              </a:rPr>
              <a:t>Attention Continu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20B8-8D6C-42F3-81B9-703D6BD3EA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65F8-87D2-4891-BCF3-85126B63EA7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estion des color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la procédure établie pour les préparer ou les reconstitu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te : contenu, concentration, date de préparation et de première utilisation, de péremption, initiales du prépar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age appropr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58E6-0E4C-45F1-8744-FBD938E689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AA59-0061-4D4B-AB58-766DC2C3127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 des souch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Approprié pour des souches particulièr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cation avec des organismes conn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pour vérifier si précipitation ou cristau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si contaminants tels que bactéries et champign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6" descr="hematol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3657600" y="4419720"/>
            <a:ext cx="20574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Gauch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Wright 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Droit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Gram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5" name="Picture 8" descr="g082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CC2D-4112-4DDE-B95C-B825281301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CEDF-96C5-4E43-B3C2-E393879B99AE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loration de Gram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0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0"/>
          <p:cNvSpPr/>
          <p:nvPr/>
        </p:nvSpPr>
        <p:spPr>
          <a:xfrm>
            <a:off x="380880" y="50292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Verdana"/>
              </a:rPr>
              <a:t>Bonne Qualité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4647240" y="50292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alité médiocre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CE91-8C4A-44CB-BB09-4B47B1779C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F565-328F-431C-8EF2-EA3C6FA7754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C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Vérifier la performance de tous les mil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« maison » : tous les lo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du commerce : seulement nouveau l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10" descr="qc_mac_nlf_cdc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qc_mac_lf-cdc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2"/>
          <p:cNvSpPr/>
          <p:nvPr/>
        </p:nvSpPr>
        <p:spPr>
          <a:xfrm>
            <a:off x="3429000" y="3505320"/>
            <a:ext cx="2438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Q MacConkey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uche: lactose -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oite: lactose +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D760-C693-4995-85D1-D680968FE0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609480" y="3200400"/>
            <a:ext cx="8229600" cy="39333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Le sang humai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ne devrait pas être utilisé car 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tion entre les lo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contenir des substances inhibitrices, y compris des antibiotiqu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être dangereux (par exemple virus de l’hépatite)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5" name="Picture 39" descr="bio_hazrd_red_blk_cdc"/>
          <p:cNvPicPr/>
          <p:nvPr/>
        </p:nvPicPr>
        <p:blipFill>
          <a:blip r:embed="rId1"/>
          <a:stretch/>
        </p:blipFill>
        <p:spPr>
          <a:xfrm>
            <a:off x="5562720" y="5931000"/>
            <a:ext cx="1189080" cy="927000"/>
          </a:xfrm>
          <a:prstGeom prst="rect">
            <a:avLst/>
          </a:prstGeom>
          <a:ln w="0">
            <a:noFill/>
          </a:ln>
        </p:spPr>
      </p:pic>
      <p:sp>
        <p:nvSpPr>
          <p:cNvPr id="22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F724-1BC8-4D72-952F-9E2B9C2275F9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milieux à év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8" name="Group 7"/>
          <p:cNvGrpSpPr/>
          <p:nvPr/>
        </p:nvGrpSpPr>
        <p:grpSpPr>
          <a:xfrm>
            <a:off x="4114800" y="1143000"/>
            <a:ext cx="2514600" cy="914400"/>
            <a:chOff x="4114800" y="1143000"/>
            <a:chExt cx="2514600" cy="914400"/>
          </a:xfrm>
        </p:grpSpPr>
        <p:sp>
          <p:nvSpPr>
            <p:cNvPr id="229" name="AutoShape 8"/>
            <p:cNvSpPr/>
            <p:nvPr/>
          </p:nvSpPr>
          <p:spPr>
            <a:xfrm>
              <a:off x="4193280" y="160020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0" name="AutoShape 9"/>
            <p:cNvSpPr/>
            <p:nvPr/>
          </p:nvSpPr>
          <p:spPr>
            <a:xfrm>
              <a:off x="4114800" y="11430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3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3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3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4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4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4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50" name="Text Box 32"/>
          <p:cNvSpPr/>
          <p:nvPr/>
        </p:nvSpPr>
        <p:spPr>
          <a:xfrm>
            <a:off x="782280" y="1523880"/>
            <a:ext cx="26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érim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hydrat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minés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EF99-67EB-407F-A439-86B694AE11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53" name="Picture 7" descr="plates_venlabs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BA1D-03EA-4506-86D1-265EAB450AF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qualité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ervez un enregistrement des milieux préparés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nregistrez les résultats dans un registre dédié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H, stérilité, fertilité avec cultures de collection, réponse biochimique des cultures de coll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Fréquenc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Analyser chaque nouveau lot ou numéro de l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0B54-4A4E-415E-85E5-C9894704EA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4CFB-BBC5-466C-BF9C-65591A6A1F9E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 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aire la différence entre les contrôles intégrés et les autres contrô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utiliser les souches de contrôle pour le contrôle qualité en microbiolog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cuter l’utilisation du contrôle qualité pour les colorants utilisés lors d’examens microscop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méthodes pour vérifier la performance des milieux microbiologique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C116-198D-4AD8-9F6A-91C2EBF9DF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53D5-A456-4EB2-894A-4698F4FD4BB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s tests qualitatifs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onnent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a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e résultat numériqu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Test semi quantitatifs donnent une esti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réer un programme de CQ pour les test qualitatifs et semi quantitatif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0646-AD5D-4303-BCDD-508F5DF1CB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édures de CQ suivies par TOUT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jours enregistrer les résultats du CQ et les actions correcti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i résultats de CQ pas acceptables, PAS de compte rendu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F0A2-AF93-4DDE-B819-194A0D98303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Espace réservé du pied de page 3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A2C0-9B01-45C2-81C7-0ADEB2B7D7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11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631800"/>
            <a:ext cx="53337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D1CE-72FF-4483-8B04-98FD4B2219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 laboratoire A fait une culture et </a:t>
            </a:r>
            <a:r>
              <a:rPr b="0" i="1" lang="fr-FR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est identifié 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mesures de CQ pouvez vous utiliser pour confirmer que la souche a bien été identifiée 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DF55-B321-4D28-BF29-32D3DDEED5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6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50292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E58E-9799-4641-8794-93A165625F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e tests qualitatifs ou semi quantita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amens microscop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ndelettes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sér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microbi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te réaction qui ne donne pas de résultat numér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060A-3C40-432F-9A8E-F859634F6C71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8" name="Picture 7" descr="micro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agglut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http://www.academic.marist.edu/~jzmz/methods/wbcrbc.jpg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E06D-0CEA-4D9D-83DF-B406DD7FAF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cepts import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 l’échantill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étence du personnel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ance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de contrô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s colorants, milieux et réa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servation des regist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413B-3980-4BC1-B0AC-06263EE1BBD1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F538-56D8-4950-8763-FA09FC2ECF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qui imitent les échantillons de pati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ultures de colle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1294-6C5E-4C15-AC45-2A1911F134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égrés dans le kit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ssés automatiquement avec chaque 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certains aspects de la performance du k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’évaluent pas tout le processus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93D3-08DA-4894-BDA8-29E4736BD1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traditionne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nt une réactivité con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itent les échantillons de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l’intégrité de tout le système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dolmazonv</cp:lastModifiedBy>
  <dcterms:modified xsi:type="dcterms:W3CDTF">2010-04-07T17:00:08Z</dcterms:modified>
  <cp:revision>479</cp:revision>
  <dc:subject/>
  <dc:title>Slide 1</dc:title>
</cp:coreProperties>
</file>